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Периферийные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е дисплеи (LCD). Их появление связано с борьбой за снижение габаритов и веса переносных компью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новной из недостаток - невозможность быстрого изменения картинок или быстрого движения курсора мыши и т.п. Такие экраны нуждаются в дополнительной подсветке или во внешнем освещении. Преимущества данных экранов - в значительном сокращении спектра вредны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E6F7-800F-4F26-8CA2-8739006545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02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1695240" cy="1542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46600" y="2755080"/>
            <a:ext cx="38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Жидкокристаллический дисп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 представляет собой матрицу газонаполненных ячеек, заключенных между двумя параллельными стеклянными поверхностями. В качестве газовой среды обычно используется неон или ксенон. Разряд в газе протекает между прозрачным электродом лицевой стороне экрана и адресными электродами, проходящими по его задней стороне. Газовый разряд вызывает ультрафиолетовое излучение, которое, в свою очередь, инициирует видимое свечение люминофора. В цветных плазменных панелях каждый пиксель экрана состоит из трех ячеек с красным, зеленым и синим люминоф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F361-CF32-4F49-A90E-D9F5616EA1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izo_685ex_bs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111456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05160" y="3296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чные (игольчатые) принтеры - это самые дешевые аппараты, обеспечивающие удовлетворительное качество печати для широкого круга рутинных операций (главным образом для подготовки текстовых документов). Применяются в сберкассах, в промышленных условиях, где необходима  рулонная печать, печать на книжках и плотных карточках и других носителях из плотного материала. Достоинства: приемлемое качество печати при условии хорошей красящей ленты, возможности печати "под копирку". Недостатки: достаточно низкая скорость печати, особенно графических изображений, значительный уровень шума. Среди матичных принтеров есть и достаточно быстрые устройства (так называемые, Shattle-прин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йные принтеры обеспечивают более высокое качество печати. Они особенно удобны для вывода цветных графических изображений. Применение чернил разного цвета дает сравнительно недорогое изображение приемлемого качества. Цветную модель называют СМY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en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Yellow-Black) по названиям основных цветов, образующих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08F3-732D-490E-B9DE-9ACFB7764D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0298-5BDB-4D00-961E-C22A5ED75B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C38E-A406-4CF0-9EAB-062E94914B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9867-A636-4DD3-B0A0-94F05FA726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ые сканеры - самые простые и дешевые. Основной недостаток в том, что человек сам перемещает сканер по объекту, и качество полученного изображения зависит от умения и твердости руки. Другой важный недостаток - небольшая ширина полосы сканирования (до 10 см), что затрудняет чтение широких ориги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0447-D77A-42D3-BA05-E4F43B028F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учной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266840" cy="1019160"/>
          </a:xfrm>
          <a:prstGeom prst="rect">
            <a:avLst/>
          </a:prstGeom>
          <a:ln w="0">
            <a:noFill/>
          </a:ln>
        </p:spPr>
      </p:pic>
      <p:pic>
        <p:nvPicPr>
          <p:cNvPr id="175" name="Лазерный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00" y="252828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етодиодный ручной сканер)    (лазерный ручной скан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233360"/>
            <a:ext cx="8496000" cy="507528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банные сканеры  применяются в профессиональной типографической деятельности. Принцип заключается в том, что оригинал на барабане освещается источником света, а фотосенсоры переводят отраженное излучение в цифров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ые сканеры. Их основное отличие от двух предыдущих в том, что при сканировании неподвижно закреплена линейка с CCD - элементами, а лист со сканируемым изображением движется относительно нее с помощью специальных вал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шетные сканеры. Это самый распространенный сейчас вид для профессиональных работ. Сканируемый объект помещается на стеклянный лист, изображение построчно с равномерной скоростью считывается головкой чтения с CCD - сенсорами, расположенной снизу. Планшетный сканер может быть оборудован специальным устройством слайд-приставкой для сканирования диапозитивов и нега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онные сканеры. Относительно новое направление. Цветной проекционный сканер является мощным многофункциональным средством для ввода в компьютер любых цветных изображений, включая трехмерные. Он вполне может заменить фотоаппа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AB84-14A0-43A2-8B1F-3CB1E0B6F6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5C1F-4824-46DA-A369-A29712E32C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9C90-BFA3-4EFD-930A-71505C2F75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1F36-9D67-4DD1-B51C-6AC1A13D21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начение периферийн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3872-5F0A-4ED4-9AE0-CA52B0FBF7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назначение ПУ - обеспечить поступление в ПК из окружающей среды программ и данных для обработки, а также выдачу результатов работы ПК в виде, пригодном для восприятия человека или для передачи на другую ЭВМ, или в иной, необходимой форме. ПУ в немалой степени определяют возможности применения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89000"/>
            <a:ext cx="8496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периферий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0D2A-6C17-4C8F-AE23-DA0986DF33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28640"/>
            <a:ext cx="8569440" cy="59403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ферийные устройства можно разделить на несколько групп по функциональному назначени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-вывода – предназначены для ввода информации в ПК, вывода в необходимом для оператора формате или обмена информацией с другими ПК. К такому типу ПУ можно отнести внешние накопители (ленточные, магнитооптические), мод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едназначены для  вывода информации в необходимом для оператора формате. К этому типу периферийных устройств относятся: принтер, монитор (дисплей), ауди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Устройствами ввода  являются устройства, посредством  которых можно ввести информацию  в  компьютер.  Главное  их предназначение - реализовывать воздействие на машину. К такому виду периферийных устройств относятся: клавиатура (входит в базовую конфигурацию ПК), сканер, графический планше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(магнитные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коп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имеры. Благодаря достаточно большому объему и довольно высокой надежности чаще всего используются в рамках устройств резервного копирования данных на предприятиях и в крупных компаниях (хранят резервные копии баз данных и другой важной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записи на магнитных носителях основан на изменении намагниченности отдельных участков магнитного слоя носителя. Запись осуществляется при помощи магнитной головки, которая создает магнитное поле. При считывании информации намагниченные участки создают в магнитной головке слабые токи, которые превращаются в двоичный код, соответствующий запис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9DC1-EA3B-4639-9C67-119565D040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19640" y="1665360"/>
          <a:ext cx="12477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65360"/>
                    <a:ext cx="1247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6D12-405A-4887-8735-68F6038C2F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ооптические накопители – прив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. Также могут использоваться в качестве устройств резервного копирования, но, в отличие от стримеров, обладают гораздо меньшей вместимостью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 до 4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сках, которые позволяют многократную перезапись, применяется магнитооптический принцип, в основу которого положено физическое свойство: коэффициент отражения лазерного луча от по-разному намагниченных участков диска с особым образом нанесенным магнитным покрытием разли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2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125748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i4" descr=""/>
          <p:cNvPicPr/>
          <p:nvPr/>
        </p:nvPicPr>
        <p:blipFill>
          <a:blip r:embed="rId2"/>
          <a:stretch/>
        </p:blipFill>
        <p:spPr>
          <a:xfrm>
            <a:off x="4319640" y="159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200" y="2720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од лазерных дисков и сам носител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разновидности памяти пользователи предъявляют несколько скромных треб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независимость – т.е. не нуждаться в батарейках, неожиданная разрядка которых приведет к потер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ость – не потерять данные под воздействием грозы, падении или при попадании в л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ктной – чтобы не размышлять, а стоит ли тащить все это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й – чтобы не бегать в магазин каждый месяц за новой, т.к. старая отслужила сво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ой – совместимой со множеством устройств, в которых могут потребоваться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CDA6-8FBA-4B89-8E36-87A2D37307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spimage2" descr=""/>
          <p:cNvPicPr/>
          <p:nvPr/>
        </p:nvPicPr>
        <p:blipFill>
          <a:blip r:embed="rId1"/>
          <a:stretch/>
        </p:blipFill>
        <p:spPr>
          <a:xfrm>
            <a:off x="4680000" y="159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ispimage" descr=""/>
          <p:cNvPicPr/>
          <p:nvPr/>
        </p:nvPicPr>
        <p:blipFill>
          <a:blip r:embed="rId2"/>
          <a:stretch/>
        </p:blipFill>
        <p:spPr>
          <a:xfrm>
            <a:off x="3095640" y="1665360"/>
            <a:ext cx="113364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27918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лэш-карт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существуют два вида модемов: аналоговые и цифровые (технолог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овые модемы более популярны из-за своей дешевизны и используются в основном для выхода в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только иногда (из-за невысокой (до 56 Кбит/с) скорости передачи данных) для связи с другими ПК. Цифровые же модемы довольно дорогие и используются для высокоскоростных соединений с се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для организации локальной сети на больших расстояния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мы позволяют передавать и принимать информацию со скоростью до 5Мбит/с на расстоянии 5-7 к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5BD-0542-4523-87D2-DC5A76D09A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2" descr=""/>
          <p:cNvPicPr/>
          <p:nvPr/>
        </p:nvPicPr>
        <p:blipFill>
          <a:blip r:embed="rId1"/>
          <a:stretch/>
        </p:blipFill>
        <p:spPr>
          <a:xfrm>
            <a:off x="2519280" y="2168640"/>
            <a:ext cx="106704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i4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257120" cy="80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360" y="3080520"/>
            <a:ext cx="55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налоговый  модем)    (Цифрово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од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монитор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электронно-лучевой 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ая трубка (кинескоп) — электровакуумный прибор, преобразующий электрические сигналы в св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ые приборы — класс электровакуумных электронных приборов, предназначенных для преобразований информации, представленной в форме электрических или световых сигналов. В приборах используются сфокусированные потоки электронов, управляемые по интенсивности и положению в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B82-9EBA-4EB9-8FD7-4C9352ADA1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2" descr=""/>
          <p:cNvPicPr/>
          <p:nvPr/>
        </p:nvPicPr>
        <p:blipFill>
          <a:blip r:embed="rId1"/>
          <a:stretch/>
        </p:blipFill>
        <p:spPr>
          <a:xfrm>
            <a:off x="3635280" y="1592280"/>
            <a:ext cx="1190880" cy="96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9200" y="25758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Т-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30:28Z</dcterms:modified>
  <cp:revision>92</cp:revision>
  <dc:subject/>
  <dc:title>Lecture Template </dc:title>
</cp:coreProperties>
</file>